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move the slide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D9ED1-37D5-44DB-ACC2-C96406E834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E6E00-9A98-4194-A40F-7D00CD18E4A2}" type="slidenum">
              <a:rPr b="0" lang="en-US" sz="1200" spc="-1" strike="noStrike">
                <a:solidFill>
                  <a:srgbClr val="1a1a1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093680" y="679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898200" y="4375080"/>
            <a:ext cx="5016600" cy="40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A4AF-E589-4B32-8607-0E58F149B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925C-E9A1-46EC-8510-7A41D754C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6869BB-3091-449F-8C8F-F595491F3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17EB10-403F-488A-ADEE-FD8776DEB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CFF885-8E34-4F5C-B6F4-AEA48BB89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ABFFAC-9EF9-4639-905C-B8DCAF8BC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83E003-9846-4A0E-A22E-0FAA9B5A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5957ED-1025-47EF-A35D-A57D52289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D45B68-9DD6-487B-BC16-829432C75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90851E-805A-4A87-AA9A-33C4C7D36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B586C2-9900-4F3F-817E-88D559F52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BC1D51-3E53-4351-8402-60BEB017F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82D3-A0B3-49F6-9C51-A355C6506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211286-1240-4D12-8E8D-45BDCD18D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DF41C5-C522-4EE4-A1B2-0EAAC2433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37ABB9-CCC2-4834-986C-EEA7ED805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CBD09E-14C7-49C9-BF2F-6B956A24C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96D786-B140-44CC-A841-D0B0EDC1E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49C854-436D-4245-88E5-35AC7BD75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26CD8C-F443-4D06-950B-56C8D947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366B8F-6336-4994-9D7B-82EE46EB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E8FFCD-0FC5-44C9-868D-A4A063B83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6E25CC-79FA-45C5-BFE9-185B7C3FF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3C20-F89F-4AE2-9490-9E7BAEA49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CAC1E8-0C0E-4614-A8F9-4418167E1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8C0619-3E8A-4AB6-9308-1C2C530A1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A905E9-FD47-46CB-A864-92A3C4F93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2D175C-7399-4EED-B354-2E90C86AB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4202C5-D0FE-41B7-A0E0-185CBAEE9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26D921-CA37-4C56-BAF2-979695255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A00407-35A8-4605-8C6C-AA0FB5455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CE1E7F-4B68-48BE-B28C-70EBA1D6B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A63F4A-42FB-4E30-812F-27817F6A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0A8814-19E1-49CF-8CFE-7E4D3AE6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0F8AE8-D73E-4E40-A973-6E8A8138B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79CF6C-43B9-47F2-BCD5-91411B00F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4BF66D-11C9-40E3-841C-4FA15D71D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108B3D-E885-40EE-9561-3E441531C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AE0A45-34B2-455D-BF09-4CF87CB7B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AF1DF2-D322-4F2F-874E-295E34B76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4D9AEC-1084-4135-AFFA-704D62142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2FD9FF-3FE8-4501-AAA2-A7F031545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5E18A3-522C-4C47-9CD4-4FB003BE4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ADDD08-A06C-4D99-AAD4-7415E64C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7C96F9-C248-4EE8-8117-613843AD9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7C1DE1-D4B4-4861-829E-F36486A53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C11286-13E9-47DA-9D2E-547523CB7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0C02E3-DD93-4B7D-8843-505F3E689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8D8E73-22B7-4E1A-A597-7214696A2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75F809-D3D9-4948-9208-A4488B4A1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453E87-6E6C-4861-AD4F-6AF3A7CF5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57288E-AABC-46F5-96DD-7071B3896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0917DE-B04E-4861-8F4E-6848388B6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B6BD9E-25F8-4F33-81AA-C086463A8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D26AF6-3F5F-4763-83BF-DF9D9B10A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CA76E9-204E-4069-847E-7DAC10F90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D4D95B-1768-4739-AAAA-2ED2CE0B6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D94D5B-2353-4EA7-936D-4B00BE7D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A254BA-5D54-4377-B79E-B530AA5E5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BE8572-1476-4240-945A-1AED31B77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3101C4-7B62-482C-AD01-50399D729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9475DF-73DB-4A21-8F16-47E2274AB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861861-A598-48F7-8165-756BD4B73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25A695-6177-4857-A184-84C12D5A1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2209F5-E43F-49F7-9E6B-1E66CD38F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7C8197-C4D6-447E-8F8F-899039555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E9937F-AB53-486A-BFCD-9337BEE49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5986DA-651A-47EB-8DCA-1A318A75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DB3AD7-1AB1-4607-8E54-BF49E0E2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24BFFA-66FD-4E39-9626-AF1A7FB5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7C5CCE-A065-423A-A67B-8E0E9CCFD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DCBE27-5E8F-4819-8129-CEDEA75DA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17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4F71F4-921E-4247-A128-ED3BBF280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8016DF-0A3D-4DB8-9DBB-4EBBA5D13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679AF9-5F0E-4B86-8B5D-A4EA0CEE0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847AD8-44CA-4C26-9D26-AEAFB61FC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03E553-5520-432F-9A1A-11F7F74C8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CE3411-87AB-4743-81E9-8124540E8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13B218-E342-4143-B47B-032459AC6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D3BAA8-449F-4626-A819-D69ECCBE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B682BE-56E1-4553-9366-7B73D4A94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DEA850-91D0-435C-B4A9-8746EC8BE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698F2B-2D85-4C2F-8101-F163DC4EA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AB6AD3-7E61-4612-B579-C20225C82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9FF55A-DE40-4E68-8D01-F7A4264D5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F9443B-C616-4CD5-9364-6F8D75E67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A2C6B3-8AEE-464B-A152-2982D71AA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873983-7783-4B70-9249-DE4297AB3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C84924-585A-4B1B-8D3F-C378FDFB7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4559AF-0FE8-4A7D-8D55-1F94D3D7A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880678-BD4F-4D10-908C-F1600333D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1173F8-8EFA-492E-9B78-833F01F7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CAD4-9AA2-4CDE-AE84-CF4F9A0AA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598A84-4858-4810-A2BC-EB6499125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47E987-150A-4719-B425-7C62024C6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8F555C-510F-403B-8CB9-ED534EECF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C8AB19-972A-4275-BE96-D91C0E19A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00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01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40B786-0BE8-422B-B3AF-B267E0B3B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2775B4-14AD-4ECB-851E-B79F7D1CF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5F2F08-10CF-443C-B8AB-DEDF7309D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355298-CA06-4273-B5A9-CCCC83C7C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1EB88B-586F-48FC-89EA-3802292EB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D923AD-CB57-47CF-95BB-A5F9DAEFC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70FEF5-0465-40AE-91A7-CF861ECFB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F305A3-164B-4939-B9CA-6A4E8E7F9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B6731A-5699-4A19-BBBC-E64B9D840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ED3583-7529-4E71-8E06-832302215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B74E90-665E-4FB8-9ACA-79B93EBC0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7EC714-EE8D-4128-8F60-9CDA697DE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42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43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C6C51C-84B1-486F-9380-75D4DF9B0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83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84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2BE8-326C-4E12-8777-604A7E215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FBF6-E085-4C33-AF12-56C4351D7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31742-6D10-4867-9B33-A89F4DF21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DAC0-813F-4063-80EF-746E713B6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721E7-2A79-46D9-84A0-30283B565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5A66C-03A4-4895-A58C-FDF8CE827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BA6C6-2074-4686-B421-0192ABD59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D1BE6-9EED-415B-9A13-BBC90E9D1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6BBA1-197D-4594-8A74-B92836541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296E4-4A95-4D87-8527-B6BCC199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C239A-A13C-4CF6-A6EC-FAA4A56D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9D62D-8D29-409E-ACE6-667090D2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D9C69-A95D-4A03-B04E-222FE18E5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A3EA2-21B9-4C4B-A9EB-A59A0F7CB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8C79-B6B5-4959-9998-62EE87208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E1FB9-36E5-4639-B3D0-4222ADBA3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6ABD4-E315-4593-AAE4-3A7270811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26046-BA07-4BDE-A5A0-F4D72F104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CB83E-5708-4D32-AF5C-808013F9E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5BE72-7D07-43C8-9D05-21E7282B3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632AF-DD6B-47C9-B924-B2BB93253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5E8DD-EC6C-4D6E-B2F2-191AE0DB1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9DF8B-BE36-4291-AECE-2BA13D53C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510A2-004B-4C63-8804-480B61B5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5095A-9CC6-4CC6-B372-CB2E6FC4A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3D2D-D26A-4BE2-A529-4F3D8F471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F24D8-B02E-4344-826E-C8BEAD091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0C044-C9D4-40A8-9916-6CD77C2D3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74B47-26F7-4748-8F56-0491F8AF1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13B3E-B50F-4554-98B0-DCBDE04B8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C520F-126E-46FD-B275-9576A33DA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383E6-415F-43EB-A177-853CF0ECC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17FC7-929F-444C-BCEF-C80B9AA0B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F1980-27B3-4777-9C6F-0BAE4FC24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0D22B-782A-42EB-BC5E-D4B1AFAD0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04556-0D93-4998-9AE1-73E61D9D7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F054-92E8-4D91-A359-0D83C1A19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EF0B6-BBFF-4362-BAA8-630CF34BD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CCCA2-19E0-4403-B957-700A5DC92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99C88-DE7E-4325-939D-4BD46B6C9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C20BA-A858-4841-AC37-2835FB5EE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0E278-3A16-46B7-8B6A-EE23CA3EF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A87190-F387-4BC9-A229-06EE1B65D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70095-AE8D-4A76-9516-82F520987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2C2246-A9E8-485A-BE8B-115219F59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E5B71B-A32F-4C80-830A-8235D3CB4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334F09-83EA-46C1-ACCB-82F161043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E8C6-6B22-4878-8E85-0DF6D01E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BA22B1-C12A-4B72-9896-B829B34EF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7CD83A-9C9E-466A-9CC4-1896D591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EDB942-C4DA-4EC6-BFA5-4CEA1A65E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203B35-FDC9-4027-86C0-ACED2477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F01A6-1AEF-486F-9D6B-52EEFF392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2214B-C5B8-4677-B9A4-BDDB799E2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7E1B05-2015-4700-A999-D05A4CFD0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0B60AB-5FB9-445E-9B73-9C8904EC4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95907A-1F11-464F-A9FE-690E19B20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3386FB-3BD8-4BD8-BD06-6DFB94B47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hyperlink" Target="http://www.international-pain-school.org/" TargetMode="External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B4CA8-4E13-465C-89BE-C9DC17721C3A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ounded Rectangle 5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19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0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1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DDD1D-A277-452F-A04F-3253E4C66590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ounded Rectangle 6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22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23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24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D8F28-FA3A-421A-8328-887ABAE60EA6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ounded Rectangle 6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ounded Rectangle 2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25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26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27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CF51E-86A1-4895-ADA5-35320B67A8D8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ounded Rectangle 3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7A269-06E3-4B97-B738-A5256C9F1FAE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ounded Rectangle 4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dt" idx="31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 type="ftr" idx="32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 type="sldNum" idx="33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4474B-10ED-4051-9248-D970CA2B5AB0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ounded Rectangle 4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 type="dt" idx="34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 type="ftr" idx="35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 type="sldNum" idx="36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94160-9CF5-415C-A97B-97333278B59F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ounded Rectangle 3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 type="dt" idx="37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 type="ftr" idx="38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 type="sldNum" idx="39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40104-DDC0-4329-93D1-F53BDB85FE73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ounded Rectangle 3"/>
          <p:cNvSpPr/>
          <p:nvPr/>
        </p:nvSpPr>
        <p:spPr>
          <a:xfrm rot="5400000">
            <a:off x="7739280" y="-27720"/>
            <a:ext cx="43524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 type="dt" idx="40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 type="ftr" idx="41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 type="sldNum" idx="42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077AC-467A-428D-B909-AF063D7FBC84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TextBox 1"/>
          <p:cNvSpPr/>
          <p:nvPr/>
        </p:nvSpPr>
        <p:spPr>
          <a:xfrm>
            <a:off x="607680" y="3475440"/>
            <a:ext cx="690156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600" spc="-1" strike="noStrike">
                <a:solidFill>
                  <a:srgbClr val="858585"/>
                </a:solidFill>
                <a:latin typeface="Open Sans Light"/>
              </a:rPr>
              <a:t>International</a:t>
            </a:r>
            <a:r>
              <a:rPr b="0" lang="de-DE" sz="4600" spc="-1" strike="noStrike">
                <a:solidFill>
                  <a:srgbClr val="858585"/>
                </a:solidFill>
                <a:latin typeface="Open Sans"/>
              </a:rPr>
              <a:t> </a:t>
            </a:r>
            <a:r>
              <a:rPr b="0" lang="de-DE" sz="4600" spc="-1" strike="noStrike">
                <a:solidFill>
                  <a:srgbClr val="858585"/>
                </a:solidFill>
                <a:latin typeface="Open Sans Bold"/>
              </a:rPr>
              <a:t>Pain School</a:t>
            </a:r>
            <a:endParaRPr b="0" lang="en-US" sz="46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745" name="Rounded Rectangle 2"/>
          <p:cNvSpPr/>
          <p:nvPr/>
        </p:nvSpPr>
        <p:spPr>
          <a:xfrm>
            <a:off x="-66600" y="3686040"/>
            <a:ext cx="649080" cy="338400"/>
          </a:xfrm>
          <a:prstGeom prst="roundRect">
            <a:avLst>
              <a:gd name="adj" fmla="val 5398"/>
            </a:avLst>
          </a:prstGeom>
          <a:solidFill>
            <a:srgbClr val="8585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746" name="TextBox 3"/>
          <p:cNvSpPr/>
          <p:nvPr/>
        </p:nvSpPr>
        <p:spPr>
          <a:xfrm>
            <a:off x="777960" y="4487760"/>
            <a:ext cx="758664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Open Sans"/>
              </a:rPr>
              <a:t>More lectures and further information can be found on our project website.</a:t>
            </a:r>
            <a:endParaRPr b="0" lang="en-US" sz="1400" spc="-1" strike="noStrike">
              <a:solidFill>
                <a:srgbClr val="1a1a1a"/>
              </a:solidFill>
              <a:latin typeface="Calibri"/>
            </a:endParaRPr>
          </a:p>
          <a:p>
            <a:pPr>
              <a:lnSpc>
                <a:spcPts val="18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1400" spc="-1" strike="noStrike" u="sng">
                <a:solidFill>
                  <a:srgbClr val="008bcb"/>
                </a:solidFill>
                <a:uFillTx/>
                <a:latin typeface="Open Sans"/>
                <a:hlinkClick r:id="rId2"/>
              </a:rPr>
              <a:t>www.international-pain-school.org</a:t>
            </a:r>
            <a:endParaRPr b="0" lang="en-US" sz="1400" spc="-1" strike="noStrike">
              <a:solidFill>
                <a:srgbClr val="1a1a1a"/>
              </a:solidFill>
              <a:latin typeface="Calibri"/>
            </a:endParaRPr>
          </a:p>
          <a:p>
            <a:pPr>
              <a:lnSpc>
                <a:spcPts val="18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1400" spc="-1" strike="noStrike">
              <a:solidFill>
                <a:srgbClr val="1a1a1a"/>
              </a:solidFill>
              <a:latin typeface="Calibri"/>
            </a:endParaRPr>
          </a:p>
          <a:p>
            <a:pPr>
              <a:lnSpc>
                <a:spcPts val="18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1400" spc="-1" strike="noStrike">
              <a:solidFill>
                <a:srgbClr val="1a1a1a"/>
              </a:solidFill>
              <a:latin typeface="Calibri"/>
            </a:endParaRPr>
          </a:p>
          <a:p>
            <a:pPr>
              <a:lnSpc>
                <a:spcPts val="18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1400" spc="-1" strike="noStrike">
              <a:solidFill>
                <a:srgbClr val="1a1a1a"/>
              </a:solidFill>
              <a:latin typeface="Calibri"/>
            </a:endParaRPr>
          </a:p>
          <a:p>
            <a:pPr>
              <a:lnSpc>
                <a:spcPts val="18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1400" spc="-1" strike="noStrike">
              <a:solidFill>
                <a:srgbClr val="1a1a1a"/>
              </a:solidFill>
              <a:latin typeface="Calibri"/>
            </a:endParaRPr>
          </a:p>
          <a:p>
            <a:pPr>
              <a:lnSpc>
                <a:spcPts val="18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Open Sans"/>
              </a:rPr>
              <a:t>© 2013 international-pain-school.org</a:t>
            </a:r>
            <a:endParaRPr b="0" lang="en-US" sz="1400" spc="-1" strike="noStrike">
              <a:solidFill>
                <a:srgbClr val="1a1a1a"/>
              </a:solidFill>
              <a:latin typeface="Calibri"/>
            </a:endParaRPr>
          </a:p>
          <a:p>
            <a:pPr>
              <a:lnSpc>
                <a:spcPts val="18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14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607680" y="3475440"/>
            <a:ext cx="690156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600" spc="-1" strike="noStrike">
                <a:solidFill>
                  <a:srgbClr val="1a1a1a"/>
                </a:solidFill>
                <a:latin typeface="Open Sans Light"/>
              </a:rPr>
              <a:t>International</a:t>
            </a:r>
            <a:r>
              <a:rPr b="0" lang="de-DE" sz="4600" spc="-1" strike="noStrike">
                <a:solidFill>
                  <a:srgbClr val="1a1a1a"/>
                </a:solidFill>
                <a:latin typeface="Open Sans"/>
              </a:rPr>
              <a:t> </a:t>
            </a:r>
            <a:r>
              <a:rPr b="0" lang="de-DE" sz="4600" spc="-1" strike="noStrike">
                <a:solidFill>
                  <a:srgbClr val="333333"/>
                </a:solidFill>
                <a:latin typeface="Open Sans Bold"/>
              </a:rPr>
              <a:t>Pain School</a:t>
            </a:r>
            <a:endParaRPr b="0" lang="en-US" sz="46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42" name="Rounded Rectangle 4"/>
          <p:cNvSpPr/>
          <p:nvPr/>
        </p:nvSpPr>
        <p:spPr>
          <a:xfrm>
            <a:off x="-66600" y="3686040"/>
            <a:ext cx="649080" cy="33840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ounded Rectangle 4"/>
          <p:cNvSpPr/>
          <p:nvPr/>
        </p:nvSpPr>
        <p:spPr>
          <a:xfrm>
            <a:off x="-66600" y="3686040"/>
            <a:ext cx="649080" cy="33840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ounded Rectangle 3"/>
          <p:cNvSpPr/>
          <p:nvPr/>
        </p:nvSpPr>
        <p:spPr>
          <a:xfrm>
            <a:off x="-66600" y="3686040"/>
            <a:ext cx="649080" cy="33840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ounded Rectangle 3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4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5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6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F0E52-86D4-4770-98ED-EACE510AF355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ounded Rectangle 4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7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8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9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68C1B-331E-4523-AE1D-D1196AEC77D1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ounded Rectangle 3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0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1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2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95C0A-1B5C-40A8-9B82-0F5A1A2206B0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ounded Rectangle 4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3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14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15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9717F-B5F6-47D6-8A48-0632BCD6C9E1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ounded Rectangle 6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16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17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18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AFAA0-B95C-4194-AFAF-0F51E3DA8DC1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Integration of Palliative Care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Palliative care can be a part of symptom management from the time of diagnosis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When there are no curative options, focus medications and treatments on comfort only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Dosing of pain medication, such as opioids, has no upper limit-especially at then end of life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Treat all aspects of the patient as their greatest suffering may not be from physical pai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Remember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Palliative Care and symptom management only requires attention to what the patient needs, regular re-assessment, and access to medication. 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High-quality palliative care does not require any high-tech materials or equipment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Everyone can provide palliative care to those in need, especially at the end of life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/>
          <p:nvPr/>
        </p:nvSpPr>
        <p:spPr>
          <a:xfrm>
            <a:off x="685800" y="457200"/>
            <a:ext cx="7586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Open Sans Semibold"/>
              </a:rPr>
              <a:t>This talk was originally prepared by:</a:t>
            </a:r>
            <a:endParaRPr b="0" lang="en-US" sz="3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27" name=""/>
          <p:cNvSpPr/>
          <p:nvPr/>
        </p:nvSpPr>
        <p:spPr>
          <a:xfrm>
            <a:off x="468360" y="1676520"/>
            <a:ext cx="84247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4000"/>
          </a:bodyPr>
          <a:p>
            <a:pPr marL="150480" indent="7878600">
              <a:lnSpc>
                <a:spcPct val="1000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3600" spc="-1" strike="noStrike">
                <a:solidFill>
                  <a:srgbClr val="1a1a1a"/>
                </a:solidFill>
                <a:latin typeface="Open Sans"/>
                <a:ea typeface="Times New Roman"/>
              </a:rPr>
              <a:t>  </a:t>
            </a:r>
            <a:r>
              <a:rPr b="0" lang="en-US" sz="3600" spc="-1" strike="noStrike">
                <a:solidFill>
                  <a:srgbClr val="1a1a1a"/>
                </a:solidFill>
                <a:latin typeface="Open Sans"/>
                <a:ea typeface="Times New Roman"/>
              </a:rPr>
              <a:t>Jamie Laubisch MD &amp; Justin Baker MD</a:t>
            </a:r>
            <a:endParaRPr b="0" lang="en-US" sz="3600" spc="-1" strike="noStrike">
              <a:solidFill>
                <a:srgbClr val="1a1a1a"/>
              </a:solidFill>
              <a:latin typeface="Calibri"/>
            </a:endParaRPr>
          </a:p>
          <a:p>
            <a:pPr marL="150480" indent="7878600">
              <a:lnSpc>
                <a:spcPct val="1000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i="1" lang="en-US" sz="2400" spc="-1" strike="noStrike">
                <a:solidFill>
                  <a:srgbClr val="1a1a1a"/>
                </a:solidFill>
                <a:latin typeface="Open Sans"/>
                <a:ea typeface="Times New Roman"/>
              </a:rPr>
              <a:t>   </a:t>
            </a:r>
            <a:endParaRPr b="0" lang="en-US" sz="2400" spc="-1" strike="noStrike">
              <a:solidFill>
                <a:srgbClr val="1a1a1a"/>
              </a:solidFill>
              <a:latin typeface="Calibri"/>
            </a:endParaRPr>
          </a:p>
          <a:p>
            <a:pPr marL="150480" indent="7878600">
              <a:lnSpc>
                <a:spcPct val="1000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i="1" lang="en-US" sz="2400" spc="-1" strike="noStrike">
                <a:solidFill>
                  <a:srgbClr val="1a1a1a"/>
                </a:solidFill>
                <a:latin typeface="Open Sans"/>
                <a:ea typeface="Times New Roman"/>
              </a:rPr>
              <a:t>   </a:t>
            </a:r>
            <a:r>
              <a:rPr b="0" i="1" lang="en-US" sz="2400" spc="-1" strike="noStrike">
                <a:solidFill>
                  <a:srgbClr val="1a1a1a"/>
                </a:solidFill>
                <a:latin typeface="Open Sans"/>
                <a:ea typeface="Times New Roman"/>
              </a:rPr>
              <a:t>Memphis, USA</a:t>
            </a:r>
            <a:endParaRPr b="0" lang="en-US" sz="2400" spc="-1" strike="noStrike">
              <a:solidFill>
                <a:srgbClr val="1a1a1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Text Box 8"/>
          <p:cNvSpPr/>
          <p:nvPr/>
        </p:nvSpPr>
        <p:spPr>
          <a:xfrm>
            <a:off x="611280" y="907920"/>
            <a:ext cx="80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Calibri"/>
              </a:rPr>
              <a:t>Talks in the International Pain School include the following: </a:t>
            </a: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29" name="Rectangle 10"/>
          <p:cNvSpPr/>
          <p:nvPr/>
        </p:nvSpPr>
        <p:spPr>
          <a:xfrm>
            <a:off x="609480" y="38088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International Pain School</a:t>
            </a:r>
            <a:endParaRPr b="0" lang="en-US" sz="3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30" name="Text Box 8"/>
          <p:cNvSpPr/>
          <p:nvPr/>
        </p:nvSpPr>
        <p:spPr>
          <a:xfrm>
            <a:off x="611280" y="907920"/>
            <a:ext cx="80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Calibri"/>
              </a:rPr>
              <a:t>Talks in the International Pain School include the following: </a:t>
            </a: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31" name="Rectangle 10"/>
          <p:cNvSpPr/>
          <p:nvPr/>
        </p:nvSpPr>
        <p:spPr>
          <a:xfrm>
            <a:off x="609480" y="38088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International Pain School</a:t>
            </a:r>
            <a:endParaRPr b="0" lang="en-US" sz="3200" spc="-1" strike="noStrike">
              <a:solidFill>
                <a:srgbClr val="1a1a1a"/>
              </a:solidFill>
              <a:latin typeface="Calibri"/>
            </a:endParaRPr>
          </a:p>
        </p:txBody>
      </p:sp>
      <p:graphicFrame>
        <p:nvGraphicFramePr>
          <p:cNvPr id="832" name=""/>
          <p:cNvGraphicFramePr/>
          <p:nvPr/>
        </p:nvGraphicFramePr>
        <p:xfrm>
          <a:off x="684360" y="1266840"/>
          <a:ext cx="7696080" cy="4983120"/>
        </p:xfrm>
        <a:graphic>
          <a:graphicData uri="http://schemas.openxmlformats.org/drawingml/2006/table">
            <a:tbl>
              <a:tblPr/>
              <a:tblGrid>
                <a:gridCol w="4260600"/>
                <a:gridCol w="3435480"/>
              </a:tblGrid>
              <a:tr h="38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ysiology and pathophysiology of pain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Nilesh Patel, PhD, Kenya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sessment of pain &amp;  taking a pain history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Yohannes Woubished, M.D, Addis Ababa, Ethiopia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inical pharmacology of analgesic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d non-pharmacological treatment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Ramani Vijayan, M.D. Kuala Lumpur, Malaysia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stoperative – low technology treatment method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Dominique Fletcher, M.D, Garches &amp; Xavier Lassalle, RN, MSF, Paris, France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stoperative– high treatment technology method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Narinder Rawal, M.D. PhD, FRCA(Hon), Orebro, Sweden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Cancer pain– low technology treatment method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Barbara Kleinmann, MD, Freiburg, Germany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ncer pain– high technology treatment method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Jamie Laubisch MD, Justin Baker MD, Doralina Anghelescu MD, Memphis, USA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lliative Care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Jamie Laubisch MD, Justin Baker MD, Memphis, USA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uropathic pain - low technology treatment method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Maija Haanpää, MD, Helsinki &amp; Aki Hietaharju, Tampere, Finland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uropathic pain – high technology treatment method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Maija Haanpää, M.D., Helsinki &amp; Aki Hietaharju, M.D.,  Tampere, Finland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sychological aspects of managing pain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Etleva Gjoni, Germany 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ecial Management Challenge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Debra Gordon, RN, DNP, FAAN, Seattle, USA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2"/>
          <p:cNvSpPr/>
          <p:nvPr/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Open Sans Semibold"/>
              </a:rPr>
              <a:t>International Pain School</a:t>
            </a:r>
            <a:endParaRPr b="0" lang="en-US" sz="3200" spc="-1" strike="noStrike">
              <a:solidFill>
                <a:srgbClr val="1a1a1a"/>
              </a:solidFill>
              <a:latin typeface="Calibri"/>
            </a:endParaRPr>
          </a:p>
        </p:txBody>
      </p:sp>
      <p:pic>
        <p:nvPicPr>
          <p:cNvPr id="834" name="Picture 6" descr=""/>
          <p:cNvPicPr/>
          <p:nvPr/>
        </p:nvPicPr>
        <p:blipFill>
          <a:blip r:embed="rId1"/>
          <a:stretch/>
        </p:blipFill>
        <p:spPr>
          <a:xfrm>
            <a:off x="762120" y="3048120"/>
            <a:ext cx="7954920" cy="3325680"/>
          </a:xfrm>
          <a:prstGeom prst="rect">
            <a:avLst/>
          </a:prstGeom>
          <a:ln w="0">
            <a:noFill/>
          </a:ln>
        </p:spPr>
      </p:pic>
      <p:sp>
        <p:nvSpPr>
          <p:cNvPr id="835" name="Rectangle 4"/>
          <p:cNvSpPr/>
          <p:nvPr/>
        </p:nvSpPr>
        <p:spPr>
          <a:xfrm>
            <a:off x="919440" y="1981080"/>
            <a:ext cx="503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  <a:ea typeface="Arial"/>
              </a:rPr>
              <a:t>The project is supported by these organizations:</a:t>
            </a: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2916000" y="4941360"/>
            <a:ext cx="5337000" cy="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i="1" lang="en-US" sz="2400" spc="-1" strike="noStrike">
                <a:solidFill>
                  <a:srgbClr val="3399ff"/>
                </a:solidFill>
                <a:latin typeface="Open Sans"/>
              </a:rPr>
              <a:t>Type in the name of your institution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algn="r">
              <a:lnSpc>
                <a:spcPts val="36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1476000" y="4149720"/>
            <a:ext cx="6800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ts val="3600"/>
              </a:lnSpc>
              <a:buNone/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i="1" lang="en-US" sz="2800" spc="-1" strike="noStrike">
                <a:solidFill>
                  <a:srgbClr val="3399ff"/>
                </a:solidFill>
                <a:latin typeface="Open Sans"/>
              </a:rPr>
              <a:t>Type in your name</a:t>
            </a:r>
            <a:endParaRPr b="0" lang="en-US" sz="2800" spc="-1" strike="noStrike">
              <a:solidFill>
                <a:srgbClr val="1a1a1a"/>
              </a:solidFill>
              <a:latin typeface="Open Sans"/>
            </a:endParaRPr>
          </a:p>
          <a:p>
            <a:pPr indent="0" algn="r">
              <a:lnSpc>
                <a:spcPts val="3600"/>
              </a:lnSpc>
              <a:buNone/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8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1476000" y="3284280"/>
            <a:ext cx="680076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 algn="r">
              <a:lnSpc>
                <a:spcPts val="3600"/>
              </a:lnSpc>
              <a:buNone/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4600" spc="-1" strike="noStrike">
                <a:solidFill>
                  <a:srgbClr val="1a1a1a"/>
                </a:solidFill>
                <a:latin typeface="Open Sans"/>
              </a:rPr>
              <a:t>Palliative Care</a:t>
            </a:r>
            <a:endParaRPr b="0" lang="en-US" sz="46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pic>
        <p:nvPicPr>
          <p:cNvPr id="797" name="Picture 6" descr="http://1.bp.blogspot.com/_f2I8sVbYok0/TCAm4wO8HrI/AAAAAAAACCQ/w-9D41FN3OQ/s1600/holding+hands.jpg"/>
          <p:cNvPicPr/>
          <p:nvPr/>
        </p:nvPicPr>
        <p:blipFill>
          <a:blip r:embed="rId1"/>
          <a:srcRect l="5915" t="5843" r="6089" b="6326"/>
          <a:stretch/>
        </p:blipFill>
        <p:spPr>
          <a:xfrm>
            <a:off x="-66600" y="0"/>
            <a:ext cx="9210600" cy="6875640"/>
          </a:xfrm>
          <a:prstGeom prst="rect">
            <a:avLst/>
          </a:prstGeom>
          <a:ln w="0">
            <a:noFill/>
          </a:ln>
        </p:spPr>
      </p:pic>
      <p:sp>
        <p:nvSpPr>
          <p:cNvPr id="798" name="Rounded Rectangle 4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What is Palliative Care?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777960" y="2301840"/>
            <a:ext cx="75866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Active total care of the patient…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Begins at diagnosis, and continues regardless of whether or not a patient receives treatment directed </a:t>
            </a:r>
            <a:br>
              <a:rPr sz="2200"/>
            </a:b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at the disease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Health providers must evaluate and alleviate a child's physical, psychological, and social distress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Requires a broad interdisciplinary approach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777960" y="1368000"/>
            <a:ext cx="758664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Open Sans Semibold"/>
              </a:rPr>
              <a:t>WHO definition of palliative care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What is Palliative Care?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36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ja-JP" sz="2200" spc="-1" strike="noStrike">
                <a:solidFill>
                  <a:srgbClr val="1a1a1a"/>
                </a:solidFill>
                <a:latin typeface="Open Sans"/>
              </a:rPr>
              <a:t>“</a:t>
            </a: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The art and science of patient and family-centered care aimed at attending to suffering, promoting healing and improving quality of life</a:t>
            </a:r>
            <a:r>
              <a:rPr b="0" lang="ja-JP" sz="2200" spc="-1" strike="noStrike">
                <a:solidFill>
                  <a:srgbClr val="1a1a1a"/>
                </a:solidFill>
                <a:latin typeface="Open Sans"/>
              </a:rPr>
              <a:t>”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>
              <a:lnSpc>
                <a:spcPts val="36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>
              <a:lnSpc>
                <a:spcPts val="36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The goal is to add life to the patient</a:t>
            </a:r>
            <a:r>
              <a:rPr b="0" lang="ja-JP" sz="2200" spc="-1" strike="noStrike">
                <a:solidFill>
                  <a:srgbClr val="1a1a1a"/>
                </a:solidFill>
                <a:latin typeface="Open Sans"/>
              </a:rPr>
              <a:t>’</a:t>
            </a: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s years, not simply years to the their life …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>
              <a:lnSpc>
                <a:spcPts val="36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Why is it so important?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762120" y="114300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281520" indent="-28152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We cannot cure or save everyone and we will </a:t>
            </a:r>
            <a:br>
              <a:rPr sz="2200"/>
            </a:b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all die someday.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1520" indent="-28152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When resources are limited or unavailable, </a:t>
            </a:r>
            <a:br>
              <a:rPr sz="2200"/>
            </a:b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every patient should have the benefit of symptom management, especially at the end of life.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1520" indent="-28152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Opioids should be available for all patients to </a:t>
            </a:r>
            <a:br>
              <a:rPr sz="2200"/>
            </a:b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help alleviate pain and suffering, although not </a:t>
            </a:r>
            <a:br>
              <a:rPr sz="2200"/>
            </a:b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currently the case.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1520" indent="-28152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Palliative care and symptom management does not require high-tech medicine, but may be achieved anywhere with education and dedication.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Aspects of Palliative Care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Provide comfort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Foster interpersonal relationships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Emotional support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Social support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Spiritual support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Bereavement care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Totality of Personhood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777960" y="5867280"/>
            <a:ext cx="7586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algn="ctr">
              <a:lnSpc>
                <a:spcPts val="36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1800" spc="-1" strike="noStrike">
                <a:solidFill>
                  <a:srgbClr val="1a1a1a"/>
                </a:solidFill>
                <a:latin typeface="Open Sans"/>
              </a:rPr>
              <a:t>Goal: to attend to suffering, of any kind, and improve quality of life</a:t>
            </a:r>
            <a:endParaRPr b="0" lang="en-US" sz="18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810" name="Oval 4"/>
          <p:cNvSpPr/>
          <p:nvPr/>
        </p:nvSpPr>
        <p:spPr>
          <a:xfrm>
            <a:off x="3352680" y="3352680"/>
            <a:ext cx="2210040" cy="2210040"/>
          </a:xfrm>
          <a:prstGeom prst="ellipse">
            <a:avLst/>
          </a:prstGeom>
          <a:solidFill>
            <a:srgbClr val="df006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1" name="Oval 3"/>
          <p:cNvSpPr/>
          <p:nvPr/>
        </p:nvSpPr>
        <p:spPr>
          <a:xfrm>
            <a:off x="2514600" y="1905120"/>
            <a:ext cx="2209680" cy="2209680"/>
          </a:xfrm>
          <a:prstGeom prst="ellipse">
            <a:avLst/>
          </a:prstGeom>
          <a:solidFill>
            <a:srgbClr val="604a7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2" name="Oval 5"/>
          <p:cNvSpPr/>
          <p:nvPr/>
        </p:nvSpPr>
        <p:spPr>
          <a:xfrm>
            <a:off x="4191120" y="1905120"/>
            <a:ext cx="2209680" cy="2209680"/>
          </a:xfrm>
          <a:prstGeom prst="ellipse">
            <a:avLst/>
          </a:prstGeom>
          <a:solidFill>
            <a:srgbClr val="008bc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3" name="Text Box 6"/>
          <p:cNvSpPr/>
          <p:nvPr/>
        </p:nvSpPr>
        <p:spPr>
          <a:xfrm>
            <a:off x="990720" y="1721160"/>
            <a:ext cx="152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Religion</a:t>
            </a:r>
            <a:endParaRPr b="0" lang="en-US" sz="2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4" name="Text Box 7"/>
          <p:cNvSpPr/>
          <p:nvPr/>
        </p:nvSpPr>
        <p:spPr>
          <a:xfrm>
            <a:off x="990720" y="5150160"/>
            <a:ext cx="1447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Society</a:t>
            </a:r>
            <a:endParaRPr b="0" lang="en-US" sz="2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5" name="Text Box 8"/>
          <p:cNvSpPr/>
          <p:nvPr/>
        </p:nvSpPr>
        <p:spPr>
          <a:xfrm>
            <a:off x="6553080" y="1723680"/>
            <a:ext cx="1676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Culture</a:t>
            </a:r>
            <a:endParaRPr b="0" lang="en-US" sz="2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6" name="Text Box 9"/>
          <p:cNvSpPr/>
          <p:nvPr/>
        </p:nvSpPr>
        <p:spPr>
          <a:xfrm>
            <a:off x="6248520" y="5150160"/>
            <a:ext cx="1981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Education</a:t>
            </a:r>
            <a:endParaRPr b="0" lang="en-US" sz="2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7" name="Text Box 10"/>
          <p:cNvSpPr/>
          <p:nvPr/>
        </p:nvSpPr>
        <p:spPr>
          <a:xfrm>
            <a:off x="3048120" y="2795400"/>
            <a:ext cx="1143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Body</a:t>
            </a:r>
            <a:endParaRPr b="0" lang="en-US" sz="2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8" name="Text Box 11"/>
          <p:cNvSpPr/>
          <p:nvPr/>
        </p:nvSpPr>
        <p:spPr>
          <a:xfrm>
            <a:off x="4686480" y="2795400"/>
            <a:ext cx="1218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Mind</a:t>
            </a:r>
            <a:endParaRPr b="0" lang="en-US" sz="2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9" name="Text Box 12"/>
          <p:cNvSpPr/>
          <p:nvPr/>
        </p:nvSpPr>
        <p:spPr>
          <a:xfrm>
            <a:off x="3924360" y="4242960"/>
            <a:ext cx="1066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Spirit</a:t>
            </a:r>
            <a:endParaRPr b="0" lang="en-US" sz="2200" spc="-1" strike="noStrike">
              <a:solidFill>
                <a:srgbClr val="1a1a1a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Barriers to High Quality Palliative Care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Personal 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-9684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Emotionally difficult, taboos, resisting change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System 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-9684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Access to services, reimbursement, fragmentation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Quality 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-9684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Deficient education, lack of outcomes research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Technical 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-9684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Lack of appropriate evaluation tools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1T21:01:03Z</dcterms:created>
  <dc:creator>SJCRH</dc:creator>
  <dc:description/>
  <dc:language>en-US</dc:language>
  <cp:lastModifiedBy>ruth</cp:lastModifiedBy>
  <dcterms:modified xsi:type="dcterms:W3CDTF">2015-06-15T09:50:54Z</dcterms:modified>
  <cp:revision>37</cp:revision>
  <dc:subject/>
  <dc:title>Palliative Care</dc:title>
</cp:coreProperties>
</file>